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9728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67D-9D69-4104-9DCC-29A1DF8C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932472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4040" y="5783040"/>
            <a:ext cx="932472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041-7D30-45FC-AA0A-64CC9D2F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2320" y="277452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4040" y="578304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2320" y="578304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BC4-81BE-411D-84F8-3BE87178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3002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6920" y="2774520"/>
            <a:ext cx="3002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29800" y="2774520"/>
            <a:ext cx="3002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4040" y="5783040"/>
            <a:ext cx="3002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6920" y="5783040"/>
            <a:ext cx="3002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29800" y="5783040"/>
            <a:ext cx="3002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006-6E31-4610-92EB-F470185D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4040" y="2774520"/>
            <a:ext cx="932472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BC7-59E6-4BA9-AF5A-4FB561C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93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787-C369-417F-B910-D2BE8427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4550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2320" y="2774520"/>
            <a:ext cx="4550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4E6-655B-4F91-9DAC-FEBFE9F6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F33-2698-4D23-88D7-164DFA5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040" y="853560"/>
            <a:ext cx="93247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249-069C-409F-9E1D-F5DD80EC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2320" y="2774520"/>
            <a:ext cx="4550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4040" y="578304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234-1009-47D9-8722-18479D7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4550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2320" y="277452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2320" y="578304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7882-6141-4F21-A423-B81F7A6E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2320" y="2774520"/>
            <a:ext cx="455040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4040" y="5783040"/>
            <a:ext cx="9324720" cy="27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2B6-31D3-4368-A5D9-6DC260CC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4040" y="2774520"/>
            <a:ext cx="93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4040" y="8746920"/>
            <a:ext cx="22860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7960" y="8746920"/>
            <a:ext cx="3476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2760" y="8746920"/>
            <a:ext cx="22860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7ED1-249F-43D6-A408-22B99D278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4040" y="24537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areholders’ Equ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45920" y="4375080"/>
            <a:ext cx="768204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ferred and Common Equ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ital Con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asury Sh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tained Earnings and Divide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4040" y="32040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hareholders’ Equity for Corpo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4040" y="2241360"/>
            <a:ext cx="9144000" cy="68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porate form provides shareholders with limited liability up to their 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m may raise funds by issuing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ors can sell their shares which do not affect the continuity of operation of the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rporate char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agreement between the firm and the state in which the business incorpor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rporate bylaw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internal rules and regulations of the 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4040" y="425520"/>
            <a:ext cx="932472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ferred St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4040" y="2025720"/>
            <a:ext cx="9324720" cy="65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red stockholders are entitled to get dividends at a certain rate, which the firm must pay before it pays dividends for common shar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mulative dividend rights means that a firm must pay all current and previously postponed divide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ible preferred shar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be converted into specified number of common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eemable preferred shar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purchased back by the firm from their holders, paying a specified dollar amount at a specified futur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on St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4040" y="2774520"/>
            <a:ext cx="93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hareholders receive dividends after preferred shareholders have received their dividends promised to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hareholders have voting rights to elect members of the board of directors and decide certain broad corporate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 or stated val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s on the face of the stock certificate. The issue price could be different from the par value. Amounts that exceed the par value appear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itional Paid-in Ca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4040" y="320760"/>
            <a:ext cx="9324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pital Con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4040" y="1491840"/>
            <a:ext cx="9324720" cy="768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for 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issue is normally greater than par value. Thus the entry to record the issue of 1,000 common shares, $10 par for $100,000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, $10 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id-in 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for non-cash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ssue price equals to the market value of the assets received. In the example above, issuing 1,000 common shares, $10 par, the entry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Receiv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(land, buildings, etc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, $10 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id-in 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4040" y="853560"/>
            <a:ext cx="93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easury Sh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4040" y="2489040"/>
            <a:ext cx="9324720" cy="65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ompanies reacquire previously issued shares, they are called treasury shares (or treasury stoc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quired 1,000 common shares for $ 11 e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sury shares – Comm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easury shares is a contra account to the equity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entry above, the 1,000 shares are reissued for $14,000 . The entry will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sury Shares – Comm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Paid-in Capi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3,00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4040" y="355320"/>
            <a:ext cx="932472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tained Earnings and Divid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4040" y="1523520"/>
            <a:ext cx="9324720" cy="77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creases (decreases) by the amount of net income (loss) and decreases for dividends decla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 divid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cord $150,000 cash dividend the entry is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s Pay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,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divid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technique to increase common stock and decrease Retained Earnings. The entry has no effect on total shareholders’ equity. The shareholders receive additional shares – free – in proportion to their existing holdings. E.g. 10,000 additional shares, $10 par, market price $4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, $10 p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id-in 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5:59:39Z</dcterms:created>
  <dc:creator>ME</dc:creator>
  <dc:description/>
  <dc:language>en-US</dc:language>
  <cp:lastModifiedBy>ME</cp:lastModifiedBy>
  <dcterms:modified xsi:type="dcterms:W3CDTF">2004-09-04T15:25:24Z</dcterms:modified>
  <cp:revision>11</cp:revision>
  <dc:subject/>
  <dc:title>Shareholders’ Equity</dc:title>
</cp:coreProperties>
</file>